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4DEA-1535-496C-A316-429BC38BB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A1F2-20EA-4101-BFA3-93FEB72BC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2D9A-23B2-485E-9DF5-10AA588D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7CEF-D41D-475F-A939-125B7A06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04A-50D1-438D-86C8-F1424A42D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9D61-3345-43E0-B75A-99FE5548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BF50-1AB1-494C-B3E9-FD7F663F5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8440-F805-438C-8BAF-A98AF8D72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A4BF-9778-4A59-95EF-13ED1165D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434-3423-4DB3-BE60-342FBC415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064-F0B2-4230-B122-46AB71C9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057-D7B6-4C1E-820A-07773F75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92D6-7834-481F-8C90-2F6CF9D73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48D3-50DA-4791-87A2-BA7DB58C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0559-E3D3-4914-A7BB-BB854A86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94B2-BE1F-48C5-8DCE-B60491414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400D-16E1-4360-B6D5-DADB7F5D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8E27-D629-4ED6-8424-180945EC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C9CB-F4B3-49D9-8D24-E5FA703A3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8A5-32B4-4B50-BED0-1C583B182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932F-E5ED-4AC4-9715-491E72456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FB33-9BB0-4F28-B3A4-CAFA6AA2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38C1-74D5-4828-9CC3-6EDF56D3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C5A5-5FCC-4364-9E9A-EA632149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111-21BD-43E6-844A-10FF1406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521-F618-4C79-8F07-F52BDD0F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F95-3F87-47AB-B024-5493A2B5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902-E412-4397-95EC-05F54BA0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6EA7-7200-4793-A0E7-2894C633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0D5D-9E79-481A-9D4B-1C1F4F16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4926-B6E5-4AC4-B4F0-0250B95D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EE7A-6344-423D-9C3C-C707AC98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7A04-2D72-4099-B638-5C8A1AEF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0C28-75E5-4611-BFF7-465BE286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EDC0-D149-4EBE-80CB-9159711C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6D4-285A-4EB6-9A3F-51B21B5F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C55A-435B-419D-871A-0572849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2412-1E88-4DA5-B147-4BC5E78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3056-300B-4539-BE7A-CEEB80D2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88ED-EC57-43AB-B3E6-5E6E69D8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3404-977B-4A25-899A-592F479A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0233-C1A6-467C-B800-5FE19D40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1F3E-5CB0-48AE-9166-AAD98A4E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2B32-63F7-4B8A-8C9E-2E38A85A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CD21-2649-4ED2-8613-2BC5354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7CE4-7EAC-4F2F-BB2A-5114C4FC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5B0-3287-4FA9-A8D1-F53ED73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0CE3-8E24-4EB1-9B4F-A5D86235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61C7-7971-4CAF-B0CF-B7398D9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29A1-00EC-4ED1-869F-2CBF13B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FC10C-07F5-4140-B4E5-FC5373D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A879-4F65-45DE-B142-D5322F54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50B5-D643-42C7-AC75-26A9D72A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2ECA-1C16-4F45-B922-C811E278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C23-A7E6-44CC-97C7-C8B9C9CF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F5E-0786-4A83-8625-76F8ADEA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3EB-193E-4EAE-B7FE-967A0B2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AF2-445D-4F55-AB38-EF2C5F95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AAF-F18F-4B4A-A8EC-6486C952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F2F-BCA8-49AA-B336-E916FC89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A286-5585-4E9A-99BD-49CDA203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68B2-7ADB-4729-86EE-594431C570D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99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CFBD-8D82-4FF3-8BFD-7F170886204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49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5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4" name="WordArt 2" descr=""/>
          <p:cNvPicPr/>
          <p:nvPr/>
        </p:nvPicPr>
        <p:blipFill>
          <a:blip r:embed="rId3"/>
          <a:stretch/>
        </p:blipFill>
        <p:spPr>
          <a:xfrm>
            <a:off x="1060560" y="1384200"/>
            <a:ext cx="7016760" cy="3651480"/>
          </a:xfrm>
          <a:prstGeom prst="rect">
            <a:avLst/>
          </a:prstGeom>
          <a:ln w="0">
            <a:noFill/>
          </a:ln>
        </p:spPr>
      </p:pic>
      <p:grpSp>
        <p:nvGrpSpPr>
          <p:cNvPr id="545" name="AutoShape 108"/>
          <p:cNvGrpSpPr/>
          <p:nvPr/>
        </p:nvGrpSpPr>
        <p:grpSpPr>
          <a:xfrm>
            <a:off x="438120" y="4784760"/>
            <a:ext cx="3232080" cy="1324080"/>
            <a:chOff x="438120" y="4784760"/>
            <a:chExt cx="3232080" cy="1324080"/>
          </a:xfrm>
        </p:grpSpPr>
        <p:pic>
          <p:nvPicPr>
            <p:cNvPr id="546" name="AutoShape 108" descr=""/>
            <p:cNvPicPr/>
            <p:nvPr/>
          </p:nvPicPr>
          <p:blipFill>
            <a:blip r:embed="rId4"/>
            <a:stretch/>
          </p:blipFill>
          <p:spPr>
            <a:xfrm>
              <a:off x="438120" y="4784760"/>
              <a:ext cx="3232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457200" y="4800600"/>
              <a:ext cx="32004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AutoShape 4"/>
          <p:cNvGrpSpPr/>
          <p:nvPr/>
        </p:nvGrpSpPr>
        <p:grpSpPr>
          <a:xfrm>
            <a:off x="5632560" y="146160"/>
            <a:ext cx="2755800" cy="1920600"/>
            <a:chOff x="5632560" y="146160"/>
            <a:chExt cx="2755800" cy="1920600"/>
          </a:xfrm>
        </p:grpSpPr>
        <p:pic>
          <p:nvPicPr>
            <p:cNvPr id="550" name="AutoShape 4" descr=""/>
            <p:cNvPicPr/>
            <p:nvPr/>
          </p:nvPicPr>
          <p:blipFill>
            <a:blip r:embed="rId2"/>
            <a:stretch/>
          </p:blipFill>
          <p:spPr>
            <a:xfrm>
              <a:off x="5632560" y="146160"/>
              <a:ext cx="275580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638680" y="152280"/>
              <a:ext cx="27432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What day was Christmas 2008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hursd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0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1-17T20:47:53Z</dcterms:modified>
  <cp:revision>37</cp:revision>
  <dc:subject/>
  <dc:title>Slide 1</dc:title>
</cp:coreProperties>
</file>